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click.wav" ContentType="audio/x-wav"/>
  <Override PartName="/ppt/media/hamm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F3E-6072-4D43-8138-20DA57CB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E03-7D9E-415E-9273-23A99CCA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BDF-CD3C-4AE1-87EF-ADAD3ADC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4AB-3270-43FB-BBD1-469F157C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6537-D833-455D-BD6E-AC9488B8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1736-7FA4-453C-9046-BE2DD77A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8846-CDCA-4022-BF76-8418EE93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B07A-AF77-4660-836B-BC68F39D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A7BA-DF79-43B1-90F5-FC895DB0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CC3-3F89-441C-9996-12DB533A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C348-9B1E-41C8-9536-DF63222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B38-8DE9-4A6A-B0E4-B2CE07CB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952D-B15D-45BC-B222-BC370899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962-80A2-4485-836D-E9A5B10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63DE-6793-4565-98BC-A4A0364B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502A-A96B-4CBF-A347-84787AE5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985D-353B-4CB8-BA41-CEA0003B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2E3-BD57-4EF4-BEF8-345F54AB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CE9-37E0-4E09-9637-EBBA343B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E7C-0840-462C-B643-70C22233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3C4-F825-478B-8104-CBBD09D1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3FC-CEA9-4B94-A502-C695631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497-2D2D-40F9-B770-BB8B21B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AA7-DFDD-4EC8-9F09-A3C003EA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9640" y="1125360"/>
            <a:ext cx="8305920" cy="182520"/>
            <a:chOff x="539640" y="112536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7016760" y="112536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9640" y="120168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851-A270-4CF2-AB22-97D09AB923E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1781-B23F-472F-AB5F-98AB6553829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90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d by </a:t>
            </a: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Dreamskie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E-mail: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dreamskier@si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152280"/>
            <a:ext cx="9144000" cy="83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1.  The following could be an advertisement except________.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ail                               B.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 sign outside a shop    D. products free of charge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2.  In this text,  the writer does not tell us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 advertisements can be used in tour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 balloons can be used to adv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dvertising may make a product che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 advertisement in Europe is more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n that in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2209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562720"/>
            <a:ext cx="57168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09480"/>
            <a:ext cx="8458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3.Why can good advertisements reduce the price of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Repeated advertising increases product sales and therefore increases product sales and therefore increases product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he more products are made, the less the cost 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dvertising costs littl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Both A and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tep 3.languag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85800"/>
            <a:ext cx="8915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The development of radio,television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cinema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agazines and newspapers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s gone hand in hand with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development of advertising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无线电、电视、电影、杂志和报纸的发展同广告业的发展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齐头并进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hand in hand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密切相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相当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together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其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相配，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而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hand in hand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副词短语，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手牵着手，密切联系，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道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，后面常加介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再加名词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401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oney doesn’t always go hand in hand with happiness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606420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金钱并不总是同幸福密切相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60948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norance and poverty often go hand in hand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467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愚昧和贫穷总是紧密地联结在一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no tapes to go with the boo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276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没有这本书配套的磁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2670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nd in hand with readi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developing the habit of making note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阅读的同时，他养成了做笔记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6440" y="317520"/>
            <a:ext cx="9112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hand 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143000"/>
            <a:ext cx="938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hand in hand ---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手牵手，携手，共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981080"/>
            <a:ext cx="929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hand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手里／手边，进行中，掌握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25840"/>
            <a:ext cx="9294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t hand ---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手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常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ose , ne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连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3276720"/>
            <a:ext cx="938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 hand 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手工做，由专人递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57760"/>
            <a:ext cx="9296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always keep a dictionary _____________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r sweater is knitted 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walked ______________ in the garde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olice had the riot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暴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809880"/>
            <a:ext cx="22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/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34340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51055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150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2193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say=used to sa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ten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oul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ake a seat at the back before the lecture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e a hospital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持续的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ill not have the money to spend on books as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前经常（现在不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oke+ing+ly=jok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smilingly; surprisingly; understanding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 explained the whole story and her boss nodd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understand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解释了事情的全部经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上司理解地点着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musician smil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approv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while the little girl was playing th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弹奏钢琴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音乐家赞许地微笑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Surpris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the weather report on the evening before the storm said there would be strong winds, but not a hurric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 replied </a:t>
            </a: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laugh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“Aren’t you making the same mistak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大笑着回答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是也犯同样的错误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think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up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设想、构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re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696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仔细思考并研究出（计划等），或者想透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work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49740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8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ough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wo ways to solve the problem of dealing with the waste in front of ou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724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pent a whole week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inking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ontrac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486400"/>
            <a:ext cx="9144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soner tried to think up a plan for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nk up, think out, think ov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1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指想出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虚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 consider carefully and make a plan for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仔细思考并制定计划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也有仔细思考之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只着重思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涉及结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hink up, 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着重于结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arefully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your proposal of yester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ho can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the solution to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elighted, the girls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many good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erti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16640"/>
            <a:ext cx="2808360" cy="863640"/>
          </a:xfrm>
          <a:prstGeom prst="wedgeEllipseCallout">
            <a:avLst>
              <a:gd name="adj1" fmla="val 9523"/>
              <a:gd name="adj2" fmla="val -73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141720"/>
            <a:ext cx="2808360" cy="863640"/>
          </a:xfrm>
          <a:prstGeom prst="wedgeEllipseCallout">
            <a:avLst>
              <a:gd name="adj1" fmla="val 38805"/>
              <a:gd name="adj2" fmla="val -7977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9360"/>
            <a:ext cx="3203640" cy="863640"/>
          </a:xfrm>
          <a:prstGeom prst="wedgeEllipseCallout">
            <a:avLst>
              <a:gd name="adj1" fmla="val 37560"/>
              <a:gd name="adj2" fmla="val 1608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768920"/>
            <a:ext cx="5724360" cy="1324080"/>
          </a:xfrm>
          <a:prstGeom prst="wedgeEllipseCallout">
            <a:avLst>
              <a:gd name="adj1" fmla="val -19328"/>
              <a:gd name="adj2" fmla="val -178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 of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. try out     try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ut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指试验 试用某种机器、理论、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n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9718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dea sounds fine ,but we need to try it out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267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medicine is being tried out on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like the shoes, why not try them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867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trying out new teaching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685800"/>
            <a:ext cx="914400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n't it time you made someone's life a bit easi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’s (high) time sb did sth /should do 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虚拟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人作某事的时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 it time you got things read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gave it up.=It's time you should give it up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放弃的时候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92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told him the truth.=It's time you should told him the tru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告诉他事实的时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83048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may be seen in an ad in the form of TV, cinema, magazine, newspapers, large boards (billboard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553080" cy="4011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tep 1 Note making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ow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y using radio, TV, cinema, magazine, newspapers, large boards, signs, balloons, messages pulled behind planes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ts, services, political leaders in the western countr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s of adverti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ncreases product sal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duces pr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23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eople’s job in an advertising firm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33"/>
                </a:solidFill>
                <a:latin typeface="Arial"/>
              </a:rPr>
              <a:t>How are ads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 company goes to an advertising fi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(People’s jobs) in an advertising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is in charge of the program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thinks up an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buys space o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writes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designs the advertis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480" y="152280"/>
            <a:ext cx="905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ep 2. Reading compreh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uthor thinks that advertisements ________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re welcome by everybody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will increase the cost of products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have bad influence on people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can win more customers for a company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Paragraph 1, which word does the writer use to express his idea that advertising is common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Develope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Popular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Proved.              D. Increase.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According to the text, advertisements may be used in 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election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scientific research         D. educ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58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7640" y="3505320"/>
            <a:ext cx="43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8128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486400"/>
            <a:ext cx="4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372600" cy="74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ow many means of advertising are mentioned in the tex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9       C   1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ich paragraph talks about the purpose of advertising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aragraph 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Paragraph 2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aragraph 3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Paragraphs 4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hen an advertising company makes advertisements, which happens firs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Having a meeting.  B. Collecting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Writing a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Designing the advertis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97360" y="99072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6688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487692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839080" cy="76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at does “interview” mean in the last paragrap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See.   B. Select.    C. Visit.    D. Ask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can we infer from Paragraph 2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Only a few things can be advertised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t is difficult to use printed things for advertisemen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itical advertisements can only be seen in USA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dvertisements are everywhere for so many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5627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066680"/>
            <a:ext cx="76960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How many steps are there in making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7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When the advertisement is ready, it is shown only to a part of the country as a (an)______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view                      B.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erformanc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057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72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5:55:07Z</dcterms:created>
  <dc:creator>幻想的天空</dc:creator>
  <dc:description/>
  <dc:language>en-US</dc:language>
  <cp:lastModifiedBy>w</cp:lastModifiedBy>
  <dcterms:modified xsi:type="dcterms:W3CDTF">2004-08-23T15:43:35Z</dcterms:modified>
  <cp:revision>144</cp:revision>
  <dc:subject/>
  <dc:title>幻灯片 1</dc:title>
</cp:coreProperties>
</file>